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C83D-D0E3-40CE-B830-337212BBF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5/Chapter0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pbio.pbworks.com/w/page/16252897/Introduction%20and%20Basic%20Molecular%20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D2F-D686-422D-A969-E0FDA55C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43D-1C98-4726-808E-204B9F48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3E0-CDFD-400D-9BCA-D0954835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317-112C-4176-99FE-EC296B99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250-A82C-43BB-8033-ACC50A4D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A8A-7FE9-4214-A758-C04C7C52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E84-6BCD-408D-B174-6DC174E0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43D-6F78-4ED9-935F-9A67F9A9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359-FD11-4A09-B6F4-6A137BAE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7D3-EC21-4FDE-90DB-254554B7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00F-F2DF-4343-9E93-65FCC0B6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836-2FE2-46A1-A3C9-F35449D8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BFF0-C076-47CC-A31B-D4BDFCC21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ynthesi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57360" y="1981080"/>
            <a:ext cx="602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 dog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olecular genetics is that protein synthesis occurs as a two-step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opying of information in DNA into mRNA (messenger 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using the mRNA blueprint to create a chain of amino acids (involves ribosom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8240" y="1535040"/>
            <a:ext cx="45734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oxyribose su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ose su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-str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-str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T, C-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U, C-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nucl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nucleus and in cytopla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enger RNA (mRN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formation from DNA is transcribed onto mRNA; length depends on length of gene tran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ransfers amino acids to ribosome to build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osomal RNA (rRN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structural component of rib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NA polymer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ds to DNA at the promoter site (near the beginning of the g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DNA template, RNA polymerase adds ribonucleotides to bui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ursor 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 polymerase recognizes signal to stop transcription (termination sequ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cognizes specific sequence on mRNA and binds to that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moves along mRNA 3 nucleotides at a time;  tRNA delivers amino acids to elongate polypeptid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base “stop” signal reached and ribosome falls off the mRNA, releasing polypeptid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75040" y="609480"/>
            <a:ext cx="4992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3-base sequence on mRNA that codes for a specific 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signals initiation; codes for methio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oes not code for an amino acid;  signals 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9:34Z</dcterms:created>
  <dc:creator>rubina khan</dc:creator>
  <dc:description/>
  <dc:language>en-US</dc:language>
  <cp:lastModifiedBy>rubina khan</cp:lastModifiedBy>
  <dcterms:modified xsi:type="dcterms:W3CDTF">2012-04-24T11:30:41Z</dcterms:modified>
  <cp:revision>31</cp:revision>
  <dc:subject/>
  <dc:title>Molecular Genetics</dc:title>
</cp:coreProperties>
</file>